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3A99-94EE-480C-9D24-BC59062A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E10B-DD65-47CA-89ED-803E0796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23BB-4F8B-4270-8A06-A03458F7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C7D4-6123-47EE-B3D4-351974C9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4C50-CC45-4298-B8B0-C024404A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9243-8350-477C-AFE4-6CFBF134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5543-167F-491F-8AFB-54D7E95D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2B31-BC89-4BBC-91D9-2C35DFF0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0ADC-C18A-4593-9377-349EB47F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A0B5-0C1A-4408-9BB8-5CED0913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C7E1-EE31-4D88-AF6E-F7F51610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F6C8-2486-45F9-8E22-A23AA5E8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CDFB-692C-497A-BCCD-A7FB78F0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D82E-3E1E-4A10-9900-B444E909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5D5F-441F-4690-BFD9-1A68495B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2C04-34D9-4BF7-8591-EDEF6719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FC27-8D84-47BA-9B85-A916367A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59650-C6D8-4912-BD8D-5C5FF5D2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DDE78-0516-404E-9504-FA3FD060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ED70C-2B2A-4A72-8364-FE624DBA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F1A1D-EEE6-4255-8D7C-C0E37F2C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45C48-3367-4F77-AE5F-12EBC650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6625-A653-49E6-9470-B3789765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74919-902D-40E1-89E1-3626BE3E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F6F5F-585E-40CA-B08E-E40FFC52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45D56-4419-4556-90BA-3BAA9D58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9B55D-A5E5-4514-A34B-253F4CB0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0DB8D-94F0-43C8-B64B-0D84EBF8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50CDD-1DEA-4BC9-A599-63738A0E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9C549-2FC4-400C-95C5-1AA38A4E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EFD50-4561-4B2F-A121-D19DD113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EE2E4-CABE-4753-8C24-4166832B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C3A5E-8793-4E19-9F65-CAAD79C9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890E-97DF-4757-AB5E-CAD7536B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85F0A-9DC7-448E-B815-47529A49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9A677-746C-4295-AA7C-CAD343D1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B7B9C-90E8-4E65-AE6A-0868FEBA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74739-7013-4A15-94EC-28B26B22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7441F-6277-410A-A383-B848A590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2DE85-6D76-4E8F-ADDA-D6498D1E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86D9C-D3DD-4D88-805E-DF68AE7F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0267D-6517-479D-B500-80C289D7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7A431-37BD-4E64-A408-5ACA0686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D2FB0-F5C4-4089-832F-B0DD8CD5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576E-F4EF-4C0D-880A-CCFB6F5C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C9932-7EE8-401D-A331-EC5699DD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2C2A4-F0F2-4144-B737-CBA0190E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21AB9-3A07-49E4-9789-976D5A98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4D252-1053-4EC3-897C-229F71AC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34BC4-B614-4929-9D50-94539664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FF658-6674-43E4-BD6D-B9CFD69F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6F497-22AB-42FD-B642-4B436498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5C4C2-560C-4E26-BE4D-9551B51A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8291D-68DD-45F8-9550-6F7207BC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8DCE4-2A40-4E19-9AC1-69260915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6886-0478-403B-8B64-C300A294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20D3A-4FEE-4AF3-BFF9-C605DB5C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E6801-F369-444B-B290-44E6EF5A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163CE-C457-4C7D-87C0-A79895FC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DE7A6-C1E0-49DC-970B-B3993D8D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DECC8-D8A9-45B6-884C-4AF85061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314AC-B9DE-44B3-A357-56B04B9A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E52B3-C983-4D2C-A0FC-4EF9A578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2C68C-B0F2-41F6-A133-BACA9C6A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DC06D-A9B3-406D-B983-E2128F37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8339D-4E54-49BB-A51B-CC9BC700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7CF9-0E36-4910-B97B-962D6A8A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4F7B4-8CD8-4D83-8D07-2D350FCA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68800-CBE2-43DF-8A72-5E0E7027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08498-130B-481D-8770-F151A646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1EF5D-8920-4A59-BE67-2033312B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D5941-2A1C-4C17-A217-431FB791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D2346-425A-48B1-92D4-647A8ADA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610E1-5CCA-4A8D-B81A-4C5A8EB9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C004F-2F30-42A6-B1B7-56668D5D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853B6-026E-4F08-AD60-D77272B1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FB136-E7AA-49C8-AC6E-006987F7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129C-4AED-4632-9955-91D20F21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39668-E13F-4DF5-9F3F-0E43EC99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AE8B1-F58E-4C85-BB27-D148B19F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B2924-3F68-4696-8D13-799796BD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85FF5-D298-416E-BCE3-33749C99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72092-17BF-44EE-BDB9-C56EE0CB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CF18-01F8-4233-9700-2A157FAB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18FE-412F-4E3C-BB58-7675982CA33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A81B-F171-4AD4-8F34-DFB546009DD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86F0-872F-41DF-9AFE-D1C73B7921D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84BD-D34C-4A5C-A90F-507F9AC04DC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0566-E6C3-4943-8BAE-FAEC78875DA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39C4-95AD-47DF-8DE3-513295F0612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B9A7-22E9-4E91-B23B-44A92E8766B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nfi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Writing the truth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iograph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-depth look at individual’s lif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ritten by someone other than the individual being discuss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biographers make objective views based on the documents and date present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biographers make subjective statements for the rea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utobiograph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riter is innately subjective about what he or she wri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elling of events in one’s own lif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ying to set the record straight about an issu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times used for gain (often politically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oaded Languag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nguage that includes bi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y use loaded languag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ffective when you want to get someone to do something – “Tax relief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rries strong connot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n be positive or nega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ep emotional associ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oaded Language (cont.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o-Nazi Ral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LK’s “I have a dream” spee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liticia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o els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naly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is my author trying to convey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is the purpose of the writing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is the information conveye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int of view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y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is this told (reflective, etc.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is the audience targete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y write about this topic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nalysis (cont.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was this written?  Wher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does the author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ell m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the author biased?  Neutral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re there phrases that seem unclear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y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yle – how the writer conveys the inform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does my writer convey the inf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this a story?  Expository?  Reflectiv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the author trying to be funny, sad, etc.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is the style of the author’s other writing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is the tone of the piec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yle (cont.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is the theme?  Clearly define thi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are the sentences crafte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 / shor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hras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un-on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is the theme interwoven throughout the piec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ypes of Essay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posito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nlighten the rea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ually carries an informative t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 alway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sents factual inform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arra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lling a st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formation presented in chronological or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der is guided alo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ypes of Essays (cont.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rsuas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fluence the reader to take a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king the reader to accept an opin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s facts to back up the opin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riting about a single event, object, or place in vivid det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d to create a sensory feeling for the rea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ypes of Essays (cont.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flec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author reflects upon an event that occurred within his or her own lif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nerally shows a lesson learned by the auth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styles of writing are often blended together, creating a mixed essays of sorts.  However, the essay can generally be classified into one of the main categori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iography &amp; Autobiograph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scover a philosophy or point of view on life about an individu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y to capture the qualities of a character that distinguish the individual’s lif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n be about anyo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uld be organized around a couple major events or the entire lif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1:08Z</dcterms:created>
  <dc:creator>Administrator</dc:creator>
  <dc:description/>
  <dc:language>en-US</dc:language>
  <cp:lastModifiedBy>Administrator</cp:lastModifiedBy>
  <dcterms:modified xsi:type="dcterms:W3CDTF">2009-11-13T14:46:46Z</dcterms:modified>
  <cp:revision>6</cp:revision>
  <dc:subject/>
  <dc:title>Nonfiction</dc:title>
</cp:coreProperties>
</file>